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08596"/>
        <c:axId val="57204279"/>
      </c:barChart>
      <c:catAx>
        <c:axId val="55708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4279"/>
        <c:crosses val="autoZero"/>
        <c:auto val="1"/>
        <c:lblAlgn val="ctr"/>
        <c:lblOffset val="100"/>
        <c:noMultiLvlLbl val="0"/>
      </c:catAx>
      <c:valAx>
        <c:axId val="57204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8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D94-75B9-4F13-A171-0680F3AE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EEE-D0C2-45BB-B619-08C60D8B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5C2-AD07-4C85-8A8C-3F358ED9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0BB-FDEE-4FC1-B81A-4591D7D3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F95-E6AF-41D5-BD23-9D493062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C9A-6688-4C4C-94C7-E00BFC9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6DA-DD1C-4272-B817-F73237D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B7B-5ECF-4BF0-8605-41DD7F4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98C-592B-4601-9AD2-BCD4CBFC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819-F8D8-4DFE-8A11-EB1085C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D2F-4468-4773-BF10-864AB93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6FC-22F2-4A8A-B424-338A17F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2C6BD-EDF3-40A4-A86B-820C74F717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