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00347"/>
        <c:axId val="51012738"/>
      </c:barChart>
      <c:catAx>
        <c:axId val="64003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012738"/>
        <c:crosses val="autoZero"/>
        <c:auto val="1"/>
        <c:lblAlgn val="ctr"/>
        <c:lblOffset val="100"/>
        <c:noMultiLvlLbl val="0"/>
      </c:catAx>
      <c:valAx>
        <c:axId val="510127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03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16CC-1AC7-4367-B1AA-5891B7FC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699F-C7A4-4640-8743-9E889BB1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E7BF-6BD7-4443-B9B2-FE5DE3E8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C53E-281C-4767-90C2-037C07DA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469C-8C87-4542-8977-5BDDDB11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010F-9F10-4515-B95F-0BEFDDE1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D08A-73C1-4186-9D6B-AED9CD2A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5FBE-1005-450D-A7DB-A3A1176F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09FB-F234-4631-A832-5D5974CA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C313-865B-471C-BD5E-A41BCEA8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EBE2-D92B-4678-BD13-23339C58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336D-EB99-476F-B9C2-0A5BC7F8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3CB23-1434-4A6D-9EF8-118BE1191A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