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95461"/>
        <c:axId val="492492"/>
      </c:barChart>
      <c:catAx>
        <c:axId val="894954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492"/>
        <c:crosses val="autoZero"/>
        <c:auto val="1"/>
        <c:lblAlgn val="ctr"/>
        <c:lblOffset val="100"/>
        <c:noMultiLvlLbl val="0"/>
      </c:catAx>
      <c:valAx>
        <c:axId val="492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954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C244-488D-4271-B3C3-26B8A5D6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D16-17C3-472C-B0AC-037E329D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7B0-5246-4CCC-8CE2-DCB104CE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752-115D-41B6-8749-DA01599E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025-4D40-4424-8342-8C990D7C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AE8-4364-4F30-8AE0-DBF3E10C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F16-9E1D-499B-8054-0E32DE09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0E4-0BAD-4009-AEDC-11623D72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BA9-9CB7-409F-AF47-73C62144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97D-6CEB-4490-9E5F-51220DEE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C78B-B052-406A-8DE5-0F634B6F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0DA-6097-4ACE-9EDC-C8563B4D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163B2-37DA-412F-AD0D-BFAA834566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