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80058"/>
        <c:axId val="57084497"/>
      </c:barChart>
      <c:catAx>
        <c:axId val="32680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84497"/>
        <c:crosses val="autoZero"/>
        <c:auto val="1"/>
        <c:lblAlgn val="ctr"/>
        <c:lblOffset val="100"/>
        <c:noMultiLvlLbl val="0"/>
      </c:catAx>
      <c:valAx>
        <c:axId val="57084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80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2E1-802A-49BD-9D71-528BA907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4F0-AC63-48A8-9E6B-CAD47F8A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6CA-8629-4BB4-955A-A952F38F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B2D-7466-4CDE-8D83-F637DA35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1BC-D67A-4956-B8F0-267B5706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228-EFD6-4AA6-BE3D-EC300A12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871-213A-4283-BDCC-B2A1E5D4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CD2-2F17-41FF-AE71-8E34640E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B65-5144-42E7-8A69-4F86A693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048-A93F-4F4D-BEF2-096FE63C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B8E-E754-4345-BCE6-E14C3CB7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A21-085A-4DE6-8F74-D96A303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587A8-AB98-4E3A-BA65-75CB4F1520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