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23830"/>
        <c:axId val="35459910"/>
      </c:barChart>
      <c:catAx>
        <c:axId val="23223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59910"/>
        <c:crosses val="autoZero"/>
        <c:auto val="1"/>
        <c:lblAlgn val="ctr"/>
        <c:lblOffset val="100"/>
        <c:noMultiLvlLbl val="0"/>
      </c:catAx>
      <c:valAx>
        <c:axId val="35459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23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A77-A2FA-4C59-AD0A-A6FBFC4F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A86-FA82-46A8-A11D-B541AA6A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3BA8-69B5-4DAC-94BC-B31CAB03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95A-C80D-42EA-AF3C-1E2F3BD0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0D4-453C-416A-9528-972DF22D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C7C-AB55-414E-8142-9E0BAA8C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09C-D5CA-441C-AAEE-1C4AFDC4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21B-348C-4C53-9221-9512781A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666-982A-4F4D-9D51-FA981642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C19-514E-42E2-BE2A-42B53C16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CFF-F888-40BA-B5F0-03B4DDF6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6B7-4BFD-4934-8091-CDF2539D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CE7CB-60A0-402C-B944-632BBC2E3E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