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35645"/>
        <c:axId val="39674931"/>
      </c:barChart>
      <c:catAx>
        <c:axId val="42435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74931"/>
        <c:crosses val="autoZero"/>
        <c:auto val="1"/>
        <c:lblAlgn val="ctr"/>
        <c:lblOffset val="100"/>
        <c:noMultiLvlLbl val="0"/>
      </c:catAx>
      <c:valAx>
        <c:axId val="39674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35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B06-9E61-45AD-8DC1-4EBDED68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C24-30BE-45F8-93D9-D488A2FA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BEF-CD8D-4247-8E95-F5820B7A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C36-95FE-478E-BF86-A509F7BE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FF3B-0396-404F-AEAD-55BA3170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F81-C4C6-48B2-8016-F3498F9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2CD-9AC8-48D7-A7F0-5E997F66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C19-6F16-4C4F-96BC-7EEF43C7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93D0-1F7D-4398-8F44-E90F2EA3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627-A1C1-4B75-88BD-C162DDE6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69F1-01F0-41B7-9082-7FB6DA34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48A1-11AF-456C-804E-15230327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21DD7-EF6F-4C0B-9ACD-66F64A541C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