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93336"/>
        <c:axId val="83302015"/>
      </c:barChart>
      <c:catAx>
        <c:axId val="85593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02015"/>
        <c:crosses val="autoZero"/>
        <c:auto val="1"/>
        <c:lblAlgn val="ctr"/>
        <c:lblOffset val="100"/>
        <c:noMultiLvlLbl val="0"/>
      </c:catAx>
      <c:valAx>
        <c:axId val="83302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93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565-E3C7-4C31-91ED-7358510E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E1F-C690-42AD-9D5D-518C1B8C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D9E-9640-4A64-8162-E7BBC395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215-22F1-4404-ADA1-8A42A56D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0A3-6C82-49DE-B99C-E393E996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B5A-5CC9-4A92-B4B9-1A289E03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32B8-57F7-482D-9726-86A132F0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96A-E036-4873-A619-0AD3A16B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4EF-C63E-4B4B-A2CE-B31A3C14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0D16-6A1A-48A0-9E24-B69787EF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6CC-1171-467C-8A82-DADEB587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EC9-6951-4B13-BC4A-B1FBAFF1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61E97-47FC-48E5-9EA4-A9AF94B323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