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60400"/>
        <c:axId val="88847630"/>
      </c:barChart>
      <c:catAx>
        <c:axId val="49060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47630"/>
        <c:crosses val="autoZero"/>
        <c:auto val="1"/>
        <c:lblAlgn val="ctr"/>
        <c:lblOffset val="100"/>
        <c:noMultiLvlLbl val="0"/>
      </c:catAx>
      <c:valAx>
        <c:axId val="88847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60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D4A-3F4C-4DBF-AD07-4F8BAE7D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6AC-CA09-4B56-B632-9FCF9F9E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68F-BDA3-4230-8480-403A0AB1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530-3895-4DC4-B390-B8376E57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FFE-2754-4C68-8EA7-B4E2F4F9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559-E9A1-4BB7-BF3F-8643D6E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ED5-F0A2-4812-ABFA-DE7DCE6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D17-7745-4996-8895-EBDD489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A56-060D-4D7B-A58E-853E11E7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FB3-FEB3-4585-9F7E-1DC7148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C19-1DD5-42C9-A513-DE9408EA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9D2-50AA-4DA1-BA92-B6FD893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23C16-64FF-4D8A-A0EF-0C53F7CB87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