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610638"/>
        <c:axId val="37361950"/>
      </c:barChart>
      <c:catAx>
        <c:axId val="366106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361950"/>
        <c:crosses val="autoZero"/>
        <c:auto val="1"/>
        <c:lblAlgn val="ctr"/>
        <c:lblOffset val="100"/>
        <c:noMultiLvlLbl val="0"/>
      </c:catAx>
      <c:valAx>
        <c:axId val="373619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6106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BC2B-34A1-40CE-A4A7-E83847F63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2E78-E3CF-412B-8844-3BEC3140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9546-C55D-4A19-A682-5FD3E98B3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7574-658F-48A0-9DB4-DC6D9CB63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84BE-4E73-45F6-B784-DC8F121D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3301-F55B-4ABD-A01B-ABF5DBF6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1BC6-BB55-493F-AC9C-79E22628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344A-BA2E-4506-81F4-CBADA023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0BF0-3009-4F14-ADCE-DF4F573B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BAD0-7A97-427A-82E9-D7D0A477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12D8-0D58-4218-8245-488BE84C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DDF4-BC7E-45CB-A025-91E77CC4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C2D38D-C840-4882-8F9D-1F53CB8F82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