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7535310"/>
        <c:axId val="80752604"/>
      </c:barChart>
      <c:catAx>
        <c:axId val="9753531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752604"/>
        <c:crosses val="autoZero"/>
        <c:auto val="1"/>
        <c:lblAlgn val="ctr"/>
        <c:lblOffset val="100"/>
        <c:noMultiLvlLbl val="0"/>
      </c:catAx>
      <c:valAx>
        <c:axId val="8075260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53531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5BAF8-0470-4881-AD41-A37C1D9AB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CD299-1063-44AD-9412-51D16731C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9D861-04AA-474E-B1A4-FCB4D7ED3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5B224-74B1-47C2-988E-E66708774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C59DC-DDB3-4CCD-8435-298F25B3A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B2CFE-99DB-4412-846E-A0EAAE901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97EDE-6A8E-4527-A625-60885BC6F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B0256-1AF1-408B-A1E2-65F3AE6D7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DDE08-B772-4758-992A-9DA8C506D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57B9C-797D-443B-A0CB-EF48F8795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37F7B-9D7E-4F58-8F52-3E40F83E5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EB313-1093-44E9-846E-F0EE363AC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C63237-0D39-4C56-BAAB-569827E311F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